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B2C-AADA-4FEC-937D-4B749253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9E5-3C37-479F-BFCF-0060A51C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E86-EBC5-47FC-93DC-7AC855EA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35F-FF3A-4B06-B6F6-3ED4C3C8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47D-4976-4CE5-8614-C042309D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16D-1FDE-4A96-BA09-D9E65D6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59C-FE2A-4E2A-AA67-0A5C8C02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636-D707-4EE4-8A82-AC2E254B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F13-2B70-49C6-AC30-AEC103B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535-27A0-4A32-93C5-8FF23F3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8A9-B423-4689-B4A5-C87CADB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8B6-8213-4424-8517-BFFBFDA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CF8A-1378-47CE-BA78-69D725ECBB3F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AF5-2C2E-45DC-82BB-8DF59D6C4DA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142640"/>
            <a:ext cx="7786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IM(İMLÂ) KURALLAR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UYGULA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ayt Numarası Yer Tutucus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0B0-C595-4CF9-9B98-F28C2245F99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78588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t, ülke ve bölge, kıta, deniz, okyanus, göl, akarsu, boğaz, geçit, dağ, tepe, ova vb. isimleri büyük harfle baş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, Türkiye Cumhuriyeti…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 Almanya, Batı Trakya, Güney Yemen, Doğu Avrupa, Doğu Anadolu Bölgesi…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deniz, Karadeniz, Büyük Okyanus,Van Gölü, Kızılırmak, İstanbul Boğazı,Elmadağ, Uludağ,Konya Ovası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ön bildiren kelimeler bir bölge veya ülke adından önce gelirse büyük, sonra gelirse küçük yazılır.</a:t>
            </a:r>
            <a:br>
              <a:rPr sz="2400"/>
            </a:b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ıbrıs'a 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brıs'ı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i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ğ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adolu'nun coğrafyası..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olu'nu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ğusundaki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ğlar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l, İlçe, Semt, mahalle, cadde, bulvar, sokak, pasaj, çarşı, park isimleri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kara, İstanbul, Mamak, Yenişehir,Atatürk Bulvarı, Gönül Sokak, Şaziyem Pasajı, Kuyumcular Çarşısı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y, köşk, han, kale, köprü, anıt vb yapı adlarına ait bütü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pkapı Sarayı, Çankaya Köşkü, Ankara Kalesi, Galata Köprüsü, Atakul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zegen ve yıldız adları büyük harfle başlar. Ancak dünya, güneş ve ay kelimeleri terim olarak (astronomi ve coğrafya terimi) kullanılıyorsa özel isim olduğu için büyük; diğer anlamlarında (gerçek, mecaz, yan, eş, deyim vb.) kullanılıyorsa cins ismi olduğu için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ın Güneş ışınları Dünya'ya dik olarak gelir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bahtan beri dünya kadar yer dolaştı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ve gün adları, belirli bir tarih belirttiğinde büyük; bunun dışında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 Kasım 2011 Pazartesi günü konferans yapılac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yıl temmuz sıcaklarında kavruldu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î ve dinî bayramlarla bayram niteliği kazanmış günler büyük harfle başlar. Ancak genel nitelik arz edenler, tarihi dönem bildirmeyip tür  ve tarz bildirenler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iyet Bayramı, Ramazan Bayramı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yatro günü, kitap haftası, film haftası, sağlık haftası, dil kurultay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800" y="857160"/>
            <a:ext cx="77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1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birim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ar, lira, yeni kuruş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2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 yerine kullanılan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4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saltmaların Yazım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; bir kelime, terim veya özel adın içerdiği harflerden biri veya birkaçı ile daha kısa olarak ifade edilmesi ve sembolleştirilmesidir. Yapılan kısaltmaların benimsenmesi, yaygınlaşması ve herkes tarafından anlaşılması gerek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, AB, ABD, age.,AKM, Alb., Alm.,Apt., AŞTİ, Av.,bk., DGM, dm, GAP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müessese, makam, üniversite adlarının kısaltmalarında bütün harfler büyüktür. Harfler arasına nokta koymaya gerek yok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T, TBMM, İTÜ, DSİ, TDK, TTK, MEB, AÜ DTCF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kısaltmalardan sonra gelen çekim ekleri kesme ile ayrılır. Ekler son harfin okunuşuna göre belirlenir; kelimenin uzun şeklinin okunuşuna göre değ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B'e, TBMM'nin, DTCF'ne değil DTCF'ye, İTÜ'nden değil İTÜ'd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6800" y="1071720"/>
            <a:ext cx="7829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. Bu kısaltmalara ek getirilirken kelimenin uzun şeklinin okunuşu esas alınır; ekler kesmeyle ayrıl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…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m., İng., Kocatepe Mah., Güniz S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.da, Alm.yı, İng.y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1720" y="2143080"/>
            <a:ext cx="7286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ların Yazımı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427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ÜYÜK HARFLERİN KULLANILDIĞI YER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 metin içerisinde yazıyla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 yıldan beri, dört kardeş,iki hafta sonra, üçüncü sını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a karşılık saat, para tutarı, ölçü, istatistik verilere ilişkin sayılarda rakam kullan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30'da, 1.500.000 lira,1.250.000 kişi, % 25, % 50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le ilgili işlem ve senet, çek vb. ticarî belgelerde geçen sayı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0,35 (altıyüzelliTL,otuzbeşK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 rakamları ancak yüzyıllarda, hükümdar adlarında, tarihlerde ayların yazılışında, kitap ve dergi ciltlerinde ve kitapların asıl bölümlerinden önceki sayfaların numaralandırılmasında kullanılabil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. yüzyıl, III. Selim,VIII. Edward, I. Cilt, XII. Cil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ş ve beşten çok rakamlı sayılar sondan sayılmak üzere üçlü gruplara ayrılarak yazılır ve araya nokta konu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6.1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ştirme sayıları rakamla değil yazıyla belirtili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şer değil ikişer, 9'ar değil dokuzar, 100’er değil yüz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yazıyla ve rakamla gösterilebilir. Rakamla gösterilmesi durumunda ya rakamdan sonra bir nokta konur ya da rakamdan sonra kesme işareti konularak derece gösteren e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, 56., XX.; 5'inci, 6'nc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ra sayıları ekle gösterildiğinde rakamdan sonra sadece kesme işareti ve ek yazılır; ayrıca nokta konmaz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'i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'i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.'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2356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işik Yazılışlar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28440"/>
            <a:ext cx="78296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düşmesine uğrayan birleşik kelimele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ynana (&lt; kayın ana), nasıl (&lt; ne asıl), niçin (&lt; ne içi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biri (&lt; biri bi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- ve ol- y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dımcı fiilleriyle birleşirken ses düşmesine veya ses türemesine uğrayan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retmek (&lt;emir etmek); kaybolmak (&lt;kayıp olmak);   affetmek (&lt;af etmek); reddetmek (&lt;ret etmek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857160"/>
            <a:ext cx="78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den her ikisi veya ikincisi, birleşme sırasında benzetme yoluyla anlam değişmesine uğradığında bu tür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ki adları: aslanağzı, keçiboynuzu, kuşburn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yvan adları: danaburnu (böcek), akbaş (kuş), alabacak (at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iyecek adları: dilberdudağı, kedidili, tavukgöğsü, vezirparmağ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yun adları: beştaş, dokuztaş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k adları: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laçiçeği, balköpüğü, camgöbeği, yavruağzı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0" y="714240"/>
            <a:ext cx="78296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veya iki ögesi emir kipiyle kurulan kalıplaşmış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şağı, albeni, ateşkes, rastgele, veryansın, yapboz, yazboz taht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/-en, -r/-ar/-er/-ır/-ir, -maz/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ş/-miş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nin kalıplaşmasıyla oluş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kurtaran, çöpçatan,yolgeçen; bilgisayar;  etyemez, hacıyatmaz; çokbilmiş, güngörmü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7160" y="857160"/>
            <a:ext cx="8143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ildirmey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, 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er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sona getirilmesiyle kurulan birleşik kelimeler bitişik yazılır (somut olarak belirtenler ayrı yazılı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akaltı, bilinçaltı, gözaltı; akşamüstü, akşamüzeri, ayaküstü, bayramüstü, gerçeküstü, olağanüstü,suçüstü, yüzüst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nin birleşmesinden oluşmuş kişi adları, soyadları ve lakap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er, Aydoğdu, Gülnihal, Gülseren, Gündoğdu,Abasıyanık, Karaosmanoğlu,Yurdaku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5716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den oluşmuş Türkçe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nakkale, Gümüşhane; Acıpayam, Pınarbaşı, Şebinkarahisar; Beşiktaş, Kabata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hir, kent, köy, mahalle, dağ, tepe, deniz, göl, ırmak, su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b. kelimelerle kurulmuş sıfat tamlaması ve belirtisiz isim tamlaması kalıbındaki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ehir,  Suşehri, Yenişehir; Atakent, Uludağ; Kocatepe, Tınaztepe; Akdeniz, Acıgöl,Akç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unvanlarından oluşmuş mahalle, meydan, köy vb. yer ve kuruluş adlarında unvan kelimesi sonda ise, gelenekleşmiş olarak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rampaşa,Ertuğrulgazi, Kemalpaşa (ilçesi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yönleri belirten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üneybatı, güneydoğu, kuzeybatı, kuzeydoğ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57160" y="114300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abemizde her harfin bir büyük, bir de küçük şekli vardır. Yazıda yaygın olarak küçük harf kullanılır. Ancak belirli yerlerde büyük harf kullanılmalı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yük harfle küçük harf arasında okunuş olarak fark olmasa da yazılış olarak büyük farklar var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7160" y="64296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e, name, zade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elimeleriyle oluşturul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yhane, dershane, kahvehane, yazıhane;beyanname, kanunname, seyahatname, siyasetname; amcaza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czahane, hastahane, pastahane, postah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 kullanımdaki yaygınlık dolayısıyla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zane, hastane, pastane, post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yaz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lardan başka dilimizde her iki öğesi de asıl anlamını koruduğu hâlde yaygın bir biçimde gelenekleşmiş olarak bitişik yazılan kelimeler de vardı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sıfat tamlamaları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bakan,başyaza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topluluğun yöneticisi anlamındaki </a:t>
            </a: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belirtisiz isim tamlamaları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çıbaşı,onbaşı, ustabaşı, yüzbaş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,kız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panoğlu,elkız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, bey, efendi, hanım, nine 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sözlerle kurulan birleşik kelimeler: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ğababa, ağabey, beyefendi, efendibaba, hanımanne, hanımefendi, hacıağa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az, birkaç, birkaçı, birtakım, birçok, birçoğu, hiçbir, hiçbiri, herhangi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rsizlik sıfat ve zamirleri de gelenekleşmiş olarak bitişik yazılı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28440" y="713880"/>
            <a:ext cx="8072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 Yazılış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ek, edilmek, eylemek, kılmak, kılınmak, olmak, olunmak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dımcı fiilleriyle kurulan birleşik fiiller herhangi bir ses düşmesine veya türemesine uğramazsa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etmek, arz etmek, azat etmek, boş olmak, dans etmek, el etmek, sağ olmak, söz etmek, terk etmek, var olmak,yok olm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28440" y="85716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eşme sırasında kelimelerinden hiçbiri veya ikinci kelimesi anlam değişikliğine uğramayan birleşik kelimeler ayrı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 türlerinden birinin adıyla kurulan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ıç balığı,muhabbet kuşu, ağustos böceği,at sineği, deniz yılanı, Ankara keçis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ki türlerinden birinin adıyla kurulanlar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k otu, beşparmak otu, çörek otu,dağ elması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Çiçek dışında anlamlar taşıyan baklaçiçeği (renk), narçiçeği (renk), suçiçeği(hastalık)  ve yaygın bir biçimde gelenekleşmiş olan 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z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tişik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28440" y="785880"/>
            <a:ext cx="7786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, eşya ve alet adlarında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çı taşı, bileği taşı, çakmak taşı, arap sabunu, el sabunu, tuz ruh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um, olgu ve olay bildiren sözlerde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oturum, açık öğretim, ana dili, ay tutulması, baş ağrısı, güç birliği, iş birliği, ses uyumu, yer çek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m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g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kurulan birleşik kelimeler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m bilimi, gök bilimi, halk bilimi, dil bilgisi, halk bilgisi, ses bilgisi, şekil bilg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7160" y="78552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yecek, içecek adlarında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hça böreği, su böreği,  çiçek yağı, Urfa kebabı; İnegöl köftesi, ezogelin çorbası, irmik helv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veya organ yerine geçen sözlerde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lak göz, süzgün göz; aşık kemiği, azı dişi, takma diş, karga burun, kepçe kulak,demir yumr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 yoluyla insanın bir niteliğini anlatmak üzere bitki, hayvan ve nesne adlarıyla kurulan birleşik kelimele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etin ceviz, çöpsüz üzüm; eski kurt, sarı çıya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7160" y="71388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 / -ar / -er, -maz / 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an / -en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yle kurulan sıfat tamlaması yapısındaki birleşik keli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ar kör, çalar saat,  güler yüz; çıkmaz sokak, geçmez akçe, görünmez kaza,tükenmez kalem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k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 veya renklerden birinin adıyla kurulmuş isim tamlaması yapısındaki renk adları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 rengi, gece mavisi, limon sarısı, süt kır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gin tonunu belirtmek üzere renkten önce kullanılan sıfatla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mavi,  kirli sarı, koyu mav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6800" y="85716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r adlarında kullanılan 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, doğu, güney, kuzey, güneybatı, güneydoğu, kuzeybatı, kuzeydoğu, aşağı, orta, yukarı, iç, yakın, uzak 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i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ğu Anadolu, Orta Asya, Yakın Doğu, Uzak Doğu, Güneybatı Anadolu, İç Asy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oluşmuş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halle, bulvar, cadde, sokak, ilçe, köy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yer ve kuruluş adlarında sondaki unvanlar hariç, şahıs adları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Mahallesi; Gazi Mustafa Kemal Bulvarı; Nene Hatun Caddesi;Sütçü İmam Üniversit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ış, iç, öte, sıra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leriyle oluşturulan birleşik kelime ve terimler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lak dışı, çağ dışı, yasa dışı; ceviz içi, hafta içi, yurt içi; kızıl ötesi, mor ötesi; aklı sıra, ardı sıra, peşi sıra, yanı sı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elirt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oluşturulan birleşik kelime ve terimle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i altı, su altı, toprak altı, yer altı (yüzey); arka üstü, böbrek üstü bez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28800" y="11426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, üst, ana, ön, art, arka, yan, karşı, iç, dış, orta, büyük, küçük, sağ, sol, peşin, bir, iki, tek, çok, çif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başa getirilmesiyle oluşturulan birleşik kelime ve terimler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yazı, ana bilim dalı, ana dili; yan cümle, yan etki; karşı görüş, iç savaş, orta kulak, büyük baba; sol bek; tek eşli, çok hücreli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cümlenin ilk kelimesi büyük harfle başlar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yla, iki noktayla, üç noktayla, soru ve ünlem işaretleriyle biten cümlelerden sonra gelen cümleler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irde her mısra (birkaç mısra bir cümle oluştursa da) büyük harfle başlar. Günümüz şiir kitaplarında bu kurala çoğunlukla uyulma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yimlerin Yazım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eyim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Calibri"/>
              </a:rPr>
              <a:t>akıntıya kürek çekmek, göz atmak, kulak verme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28440" y="78552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ilemelerin Yaz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le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ım adım, ağır ağır, 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a çık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yapılmış ikilemeler de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mat, çocuk moc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sim durum ekleri ve iyelik ekiyle yapılan ikilemeler de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 başa, diz dize, baştan başa, daldan dala, ardı ardına, günü günün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8E4F-2FDE-4F91-9493-6BFC7EE69842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tırnak veya yay ayraç içine alınan cümleler büyük harfle başlar ve sonlarına uygun noktalama işareti (nokta, soru, ünlem vb.)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atürk "Muhtaç olduğun kudret, damarlarındaki asil kanda mevcuttur!"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çizgi arasındaki açıklama cümle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zamanlar -bu zamanlar çok da uzak değildir, bundan on, on iki yıl önce- Türk saltanatının maddi sınırları uçsuz bucaksız denilecek kadar genişti. 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tün özel isimler (özel ismi oluşturan her kelime ve onları niteleyen, tanıtan unvanlar) büyük harfle başlar. Büyük harfle başlamazsa cins ismi zannedileb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soyadları, takma adlar, kişi adlarından önce ve sonra gelen saygı sözleri, unvanlar ve meslek adları, tarihî kişilerin adlarından önce gelen unvan ve lâkapla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başı Ömer, Doktor Kenan, Avcı Mehmet, Nişancı Mehmet Paş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lara verilen özel adlar da büyük harfle başla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ıkız, Fino, Karabaş, Pamuk, Minnoş, Teki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krabalık adları bildiren kelimeler büyük harfle başlamaz. Ancak akrabalık kelimeleri başta gelirse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ahriye abla, Ayşe teyze, Numan amca...</a:t>
            </a:r>
            <a:br>
              <a:rPr sz="2000"/>
            </a:b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Nene Hatun, Baba Gündüz, Dayı Kemal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071720"/>
            <a:ext cx="7758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mî yazılarda saygı bildiren sözlerden sonra gelen makam mevki, unvan bildire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kan, Sayın Başkan, Sayın Profesör, Sayın Vali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kurul, müessese, makam, üniversite isimlerin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, Mamak Anadolu Lisesi,Türk Dil Kurumu, Ege Üniversites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785520"/>
            <a:ext cx="775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t, kavim, boy, oymak, din, mezhep isimleri ve bunlara mensup olanlara verilen isimler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, Türkler, Yunan, İngiliz,Arap,Müslüman, Musevî, Hıristiya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ve lehçe isiml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, Farsça, Fransızca, Macarc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0:23:04Z</dcterms:created>
  <dc:creator>atiye</dc:creator>
  <dc:description/>
  <dc:language>en-US</dc:language>
  <cp:lastModifiedBy>tuba</cp:lastModifiedBy>
  <dcterms:modified xsi:type="dcterms:W3CDTF">2014-10-15T11:24:34Z</dcterms:modified>
  <cp:revision>235</cp:revision>
  <dc:subject/>
  <dc:title>Slayt 1</dc:title>
</cp:coreProperties>
</file>